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7EC-7109-460D-8F68-67615530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65832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EB3-AB43-47E6-83B9-7C4EB71F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807-7851-4778-AC82-D4265B23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FD2-9F6C-43CC-AB54-F7844942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929-DB00-462B-8C24-AF140BA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539-8766-479F-8D85-809779C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BA2-45E1-446A-9B06-E327979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978-37F4-495A-9FC8-86A9102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28560" y="6282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0CA-D142-4462-AD04-42724E6F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8E8-337E-4BC0-A42F-5E67FA9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A32-6C05-4B7A-867D-34E12C3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C76-B4B6-4291-9111-19B9368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B21-16AD-4A6F-8D86-44A14E33E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"/>
            <p:cNvSpPr/>
            <p:nvPr/>
          </p:nvSpPr>
          <p:spPr>
            <a:xfrm>
              <a:off x="152280" y="603396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21504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639612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2280" y="604512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2280" y="622620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40728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8113680" y="5869080"/>
            <a:ext cx="622440" cy="8208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dadada"/>
            </a:solidFill>
            <a:miter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8140680" y="5958000"/>
          <a:ext cx="569880" cy="64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40680" y="5958000"/>
                    <a:ext cx="569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-135720" y="6060960"/>
            <a:ext cx="1681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6B2-B435-461A-94D0-CCCE358DA64C}" type="slidenum">
              <a:rPr b="0" lang="en-US" sz="2400" spc="-1" strike="noStrike">
                <a:solidFill>
                  <a:srgbClr val="081d58"/>
                </a:solidFill>
                <a:latin typeface="Book Antiqu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8320" y="1065240"/>
            <a:ext cx="3962160" cy="240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1</a:t>
            </a:r>
            <a:br>
              <a:rPr sz="4400"/>
            </a:br>
            <a:r>
              <a:rPr b="0" i="1" lang="en-US" sz="5400" spc="-1" strike="noStrike">
                <a:solidFill>
                  <a:srgbClr val="fafd00"/>
                </a:solidFill>
                <a:latin typeface="Arial"/>
              </a:rPr>
              <a:t>“Chemical Reactions”</a:t>
            </a:r>
            <a:endParaRPr b="0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-AP Chemistr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3200400" cy="32004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ar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dicates a reversible reaction (more later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ows that heat is supplied to the rea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used to indicate a catalyst is supplie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n this case, platinum is the catalys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219320"/>
            <a:ext cx="1295280" cy="152280"/>
            <a:chOff x="914400" y="1219320"/>
            <a:chExt cx="1295280" cy="152280"/>
          </a:xfrm>
        </p:grpSpPr>
        <p:sp>
          <p:nvSpPr>
            <p:cNvPr id="87" name=""/>
            <p:cNvSpPr/>
            <p:nvPr/>
          </p:nvSpPr>
          <p:spPr>
            <a:xfrm>
              <a:off x="914400" y="137160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219320"/>
              <a:ext cx="15228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14040" y="1523880"/>
            <a:ext cx="1295640" cy="152640"/>
            <a:chOff x="914040" y="1523880"/>
            <a:chExt cx="1295640" cy="152640"/>
          </a:xfrm>
        </p:grpSpPr>
        <p:sp>
          <p:nvSpPr>
            <p:cNvPr id="90" name=""/>
            <p:cNvSpPr/>
            <p:nvPr/>
          </p:nvSpPr>
          <p:spPr>
            <a:xfrm flipH="1">
              <a:off x="914400" y="152388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4040" y="15238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14400" y="2438280"/>
                <a:ext cx="5921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66680" y="3733920"/>
                <a:ext cx="2057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substance that speeds up a reaction, without being changed or used up by the reaction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Enzymes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are biological or protein catalysts in your body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3.  The Skeleton Equ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s formulas and symbols to describe  a reac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t doesn’t indicate how many; this means they are NOT balanced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chemical equations are a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descriptio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of the reaction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lid iron (III) sulfide reacts with gaseous hydrogen chloride to form iron (III) chloride and  hydrogen sulfide gas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itric acid dissolved in water reacts with solid sodium carbonate to form liquid water and carbon dioxide gas and sodium nitrate dissolved in wate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w, read these equation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5760" y="1409400"/>
            <a:ext cx="8958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(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+ AgNO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3(aq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+ Cu(NO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2(aq)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93960" y="3957480"/>
                <a:ext cx="2347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2120" y="248760"/>
            <a:ext cx="861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4. Balanced Chemical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50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oms can’t be created or destroyed in an ordinary reaction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atoms we </a:t>
            </a:r>
            <a:r>
              <a:rPr b="0" i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start wi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 must </a:t>
            </a:r>
            <a:r>
              <a:rPr b="0" i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end up with</a:t>
            </a: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 (meaning: balanced!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alanced equation has the same number of each element </a:t>
            </a:r>
            <a:r>
              <a:rPr b="1" i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on both s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the equatio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rrect formul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ll the reactants and products, using “+” and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the number of atoms of each type appearing on both s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the element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at a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dd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effici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he numbers in front) where you need more -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save balancing the H and O until LAST!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(hint: I prefer to save O until the </a:t>
            </a:r>
            <a:r>
              <a:rPr b="0" i="1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very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 last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ouble-Che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ake sure it is balanc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09400"/>
            <a:ext cx="883908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ubscri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alance an equation (You can only chan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effici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hange the subscript (formula) you are describing a different chemic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s a different compound tha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a coefficient i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 formula; they must go only i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r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 is okay, but Na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is no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Ag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Cu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Cu(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A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Mg + _N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Mg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P + _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P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Na +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NaOH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C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C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640" y="130032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27960" y="1271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040" y="2306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040" y="32608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01800" y="3246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9040" y="4240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0200" y="4240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0760" y="425448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9080" y="523404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2560" y="523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2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ve general typ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reaction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ow to write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ord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2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Predic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the five general types of reaction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are probably millions of reactions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an’t remember them all, but luckily they will fall into several categories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learn: a) the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 major typ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be able to: b)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Arial"/>
              </a:rPr>
              <a:t>predict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the produc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some, we will be able to: c) predict whether or not they will </a:t>
            </a:r>
            <a:r>
              <a:rPr b="1" i="1" lang="en-US" sz="3400" spc="-1" strike="noStrike">
                <a:solidFill>
                  <a:srgbClr val="fafd00"/>
                </a:solidFill>
                <a:latin typeface="Arial"/>
              </a:rPr>
              <a:t>happen at all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e recognize them by thei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reacta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1 - Combin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bine = put togeth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substances combine to make one compound (also called “synthesis”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predict the products, especially if th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ctants are two elem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 + 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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3480" y="5235480"/>
            <a:ext cx="587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symbols, charges, cro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ssume iron (II) oxide is the produc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that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ste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to write the </a:t>
            </a:r>
            <a:r>
              <a:rPr b="0" i="1" lang="en-US" sz="4400" spc="-1" strike="noStrike">
                <a:solidFill>
                  <a:srgbClr val="fafd00"/>
                </a:solidFill>
                <a:latin typeface="Arial"/>
              </a:rPr>
              <a:t>correct formul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can still change the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bscrip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this point, but not later while balancing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n balan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y changing just the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</a:rPr>
              <a:t>coeffici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1 – Combin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tional Important Notes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)  Some </a:t>
            </a: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nonmetal ox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with w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produce an acid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Some </a:t>
            </a: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metallic ox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with w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produce a base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O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3181320"/>
            <a:ext cx="87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is is what happens to make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id ra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ose = fall ap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ne reacta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reaks apart into two or more elements or compound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Cl                     Na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CaO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i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energ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heat, sunlight, electricity, etc.) is usually requi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3048120"/>
                <a:ext cx="28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14600" y="3733920"/>
                <a:ext cx="1828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can predict the products if it is a binary compound (which means it is made up of only two element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breaks apart into the elements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g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285588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057400" y="4343400"/>
                <a:ext cx="1828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ompound has more than two elements you must be given one of the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ther product will be from the missing pie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___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___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4267080"/>
                <a:ext cx="1828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251160" y="4989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-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element replaces 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ants must b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 element and a compoun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ducts will be a different element and a different compoun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  + KCl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 + NaCl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LiCl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F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64280" y="4532400"/>
            <a:ext cx="27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ations switch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70680" y="532764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ons swi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040" y="4492800"/>
            <a:ext cx="822240" cy="582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01960" y="4465800"/>
            <a:ext cx="515880" cy="596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6880" y="5234040"/>
            <a:ext cx="530280" cy="5173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0320" y="5221440"/>
            <a:ext cx="582480" cy="556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2" idx="7"/>
            <a:endCxn id="153" idx="1"/>
          </p:cNvCxnSpPr>
          <p:nvPr/>
        </p:nvCxnSpPr>
        <p:spPr>
          <a:xfrm flipH="1" flipV="1" rot="5400000">
            <a:off x="1707840" y="4195440"/>
            <a:ext cx="25920" cy="714960"/>
          </a:xfrm>
          <a:prstGeom prst="curvedConnector5">
            <a:avLst>
              <a:gd name="adj1" fmla="val 1292957"/>
              <a:gd name="adj2" fmla="val 49974"/>
              <a:gd name="adj3" fmla="val 1292957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57" name=""/>
          <p:cNvCxnSpPr>
            <a:stCxn id="154" idx="7"/>
            <a:endCxn id="155" idx="1"/>
          </p:cNvCxnSpPr>
          <p:nvPr/>
        </p:nvCxnSpPr>
        <p:spPr>
          <a:xfrm flipH="1" flipV="1" rot="5400000">
            <a:off x="1662840" y="4674960"/>
            <a:ext cx="8640" cy="1236960"/>
          </a:xfrm>
          <a:prstGeom prst="curvedConnector5">
            <a:avLst>
              <a:gd name="adj1" fmla="val 3839130"/>
              <a:gd name="adj2" fmla="val 49985"/>
              <a:gd name="adj3" fmla="val 3839130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will replace other metals (and they can also replace hydrogen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+ Al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n + HCl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water as:  HOH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replace the first H, and then combines with the hydroxide (OH)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 + HOH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ow to write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keleton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even tell 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whether or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 single replacement reaction will happen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some chemicals are more 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Arial"/>
              </a:rPr>
              <a:t>active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oth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ctive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pla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ess activ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list on page 333 - called the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Activity Series of Met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er on the list replaces those lowe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840" y="171000"/>
            <a:ext cx="8634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The “Activity Series” of Metal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1144440" y="914400"/>
            <a:ext cx="173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Lith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alc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So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Magnes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Alumi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Z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hrom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Nick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Bism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Si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Plati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4400" y="974880"/>
            <a:ext cx="5943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can replace other metals, provided they are above the metal they are trying to replace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or example, zinc will replace l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287880"/>
            <a:ext cx="586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above hydrogen can replace hydrogen in acid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572000"/>
            <a:ext cx="5867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from sodium upward can replace hydrogen in wa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2720" y="1752480"/>
            <a:ext cx="0" cy="3353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181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22240" y="3763800"/>
            <a:ext cx="492120" cy="357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404800" y="2048040"/>
            <a:ext cx="755640" cy="2598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127240" y="2788920"/>
            <a:ext cx="1365120" cy="25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26880" y="3029040"/>
            <a:ext cx="1351080" cy="807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0160" y="966960"/>
            <a:ext cx="1670040" cy="299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2760" y="901800"/>
            <a:ext cx="1603440" cy="1164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The “Activity Series” of Haloge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371600"/>
            <a:ext cx="211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om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91764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ogens can replace 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ogens in compounds, provided they are above the halogen they are trying to repla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19840" y="3962520"/>
            <a:ext cx="3088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N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0320" y="3957480"/>
            <a:ext cx="2602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NaF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76920" y="4648320"/>
            <a:ext cx="3252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25400" y="47242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14800" y="4657680"/>
            <a:ext cx="26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 Reac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440" y="4038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0" cy="16765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3 Single Replacement Reactions Practi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e + CuS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b + KCl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l + HCl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fafd00"/>
                </a:solidFill>
                <a:uFillTx/>
                <a:latin typeface="Arial"/>
              </a:rPr>
              <a:t>#4 - Double Replacement Reactions</a:t>
            </a:r>
            <a:endParaRPr b="0" lang="en-US" sz="43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wo things replace each other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actants must be tw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onic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compound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, in aqueous solu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 positive ions change place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+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+ 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Cl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= 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H)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+ Na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C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0880" y="3247920"/>
            <a:ext cx="689040" cy="74160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00400" y="3267000"/>
            <a:ext cx="689040" cy="74160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H="1" flipV="1" rot="5400000">
            <a:off x="1821600" y="2673360"/>
            <a:ext cx="8640" cy="1236960"/>
          </a:xfrm>
          <a:prstGeom prst="curvedConnector5">
            <a:avLst>
              <a:gd name="adj1" fmla="val 3839130"/>
              <a:gd name="adj2" fmla="val 49985"/>
              <a:gd name="adj3" fmla="val 3839130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fafd00"/>
                </a:solidFill>
                <a:uFillTx/>
                <a:latin typeface="Arial"/>
              </a:rPr>
              <a:t>#4 - Double Replacement Reactions</a:t>
            </a:r>
            <a:endParaRPr b="0" lang="en-US" sz="43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certain 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ing for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rea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 if one of the product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doesn’t dissolve in water and forms a solid (a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cipita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),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t bubbles out, 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lecular compou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which will usually be water)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ume all of the following reactions actually take place: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a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NaOH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H + Fe(NO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BaF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to recognize which type?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Look at the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reactant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 + E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 + C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ingle replac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 + C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ouble replac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Example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Zn +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g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Br + Cl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NaCl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g(OH)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5 – Combus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bustion means “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add oxyge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ormally, a compound composed of only C, H, (and maybe O) is reacted with oxygen – usually called “</a:t>
            </a:r>
            <a:r>
              <a:rPr b="0" lang="en-US" sz="3800" spc="-1" strike="noStrike" u="sng">
                <a:solidFill>
                  <a:srgbClr val="fafd00"/>
                </a:solidFill>
                <a:uFillTx/>
                <a:latin typeface="Arial"/>
              </a:rPr>
              <a:t>burnin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f the combustion is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complet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the products will be 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f the combustion is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incomplet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the products will be CO (or possibly just C) and 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he steps for writing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alanced chemical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09400"/>
            <a:ext cx="85341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(assume 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(in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in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s a re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balanced in order to follow the Law of Conservation of Ma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only be balanced by changing the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</a:rPr>
              <a:t>coefficien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symbol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indicate the physical state, if a catalyst or energy is required, etc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8760" y="838080"/>
            <a:ext cx="8756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in 5 major typ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tell what type they are by looking at the reactan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ingle Replac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s based on the 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Activity Se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uble Replac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s if one product is: 1) a precipitate (an insoluble solid), 2)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a molecular comp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or 3) a ga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ome more practice problems of balancing equations located from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websi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Interesting Lin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ing Equ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8040" y="628560"/>
            <a:ext cx="839304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3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in Aqueous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information found in a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net ionic equatio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600" y="628560"/>
            <a:ext cx="8448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3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in Aqueous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dic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formation of a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ecipita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n a double replacement reactio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y reactions occur in water- that is, in </a:t>
            </a:r>
            <a:r>
              <a:rPr b="1" i="1" lang="en-US" sz="4100" spc="-1" strike="noStrike" u="sng">
                <a:solidFill>
                  <a:srgbClr val="fafd00"/>
                </a:solidFill>
                <a:uFillTx/>
                <a:latin typeface="Arial"/>
              </a:rPr>
              <a:t>aqueous solution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hen dissolved in water, many ionic compounds “dissociate”, or separate, into cations and anion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Now we are ready to write an 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Arial"/>
              </a:rPr>
              <a:t>ionic equation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755640"/>
            <a:ext cx="89154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s to be a double replacement rea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aCl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gCl + Na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this is the </a:t>
            </a:r>
            <a:r>
              <a:rPr b="0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full balanced equ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. next, write it as an </a:t>
            </a:r>
            <a:r>
              <a:rPr b="0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ionic equation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splitting the compounds into their ions: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AgC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+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the AgCl did not ionize, because it is a “precipitat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9360" y="4292640"/>
            <a:ext cx="1312920" cy="795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simplif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y crossing out ions not directly involved (called spectator ions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US" sz="3800" spc="-1" strike="noStrike" baseline="30000">
                <a:solidFill>
                  <a:srgbClr val="ffffff"/>
                </a:solidFill>
                <a:latin typeface="Arial"/>
              </a:rPr>
              <a:t>1+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+ Cl</a:t>
            </a:r>
            <a:r>
              <a:rPr b="1" lang="en-US" sz="38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AgC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1" lang="en-US" sz="3800" spc="-1" strike="noStrike" u="sng">
                <a:solidFill>
                  <a:srgbClr val="fafd00"/>
                </a:solidFill>
                <a:uFillTx/>
                <a:latin typeface="Arial"/>
              </a:rPr>
              <a:t>net ionic equa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Let’s talk about precipitates before we do some other example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dicting the Precipitat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9760" y="779040"/>
            <a:ext cx="8664480" cy="535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oluble salt = a precipitate     [note Figure 11.11, p.342 (AgCl)]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bility rul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found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11.3, p. 344 in textboo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section - page R54 (back of textbook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b manual Table A.3, page 33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periodic table handou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ll chemical reactions…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ave two parts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afd00"/>
                </a:solidFill>
                <a:latin typeface="Arial"/>
              </a:rPr>
              <a:t>Reactant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= the substances you start wi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afd00"/>
                </a:solidFill>
                <a:latin typeface="Arial"/>
              </a:rPr>
              <a:t>Product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= the substances you end up wi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actants will turn into the products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9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338560" y="4943520"/>
            <a:ext cx="4466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d of Chapter 11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755640"/>
            <a:ext cx="85485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do some examples together of net ionic equations, starting with these reactant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Ag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aCl + Ba(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57480" y="0"/>
          <a:ext cx="613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0"/>
                    <a:ext cx="613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443560" y="1027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age 3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4800" y="270036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0760" y="2700360"/>
            <a:ext cx="2138400" cy="61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95480" y="3305160"/>
            <a:ext cx="349200" cy="44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00280" y="3444840"/>
            <a:ext cx="3732120" cy="238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7680" y="2068560"/>
            <a:ext cx="25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4720" y="2025720"/>
            <a:ext cx="1997280" cy="620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60680" y="2644920"/>
            <a:ext cx="2514600" cy="276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7400" y="5021280"/>
            <a:ext cx="2336760" cy="18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2600" y="739800"/>
            <a:ext cx="258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5937120"/>
            <a:ext cx="129852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56440" y="5751360"/>
            <a:ext cx="1987560" cy="11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 a chemical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n’t created or destroyed (according to the Law of Conservation of Mas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can be described several way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 a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senten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item is a word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reacts with chlorine to form copper (II) chlorid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 a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word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 symbols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+ chlorine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pper (II) chlor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in equations?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xt page 323</a:t>
            </a:r>
            <a:endParaRPr b="0" lang="en-US" sz="2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arrow (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)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parates the reactants from the product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rrow point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c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d as: “reacts to form” or yield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lus sign = “and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s) after the formula = solid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g) after the formula = gas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C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l) after the formula = liquid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(l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(aq) after the formula = dissolved in water, an  aqueous solution: Na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is a salt water solu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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d after a product indicates a gas has been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produced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  H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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d after a product indicates a solid has been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produced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  PbI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01:51:26Z</dcterms:created>
  <dc:creator>Stephen L. Cotton</dc:creator>
  <dc:description/>
  <dc:language>en-US</dc:language>
  <cp:lastModifiedBy>Stephen L. Cotton</cp:lastModifiedBy>
  <cp:lastPrinted>1997-11-30T23:07:50Z</cp:lastPrinted>
  <dcterms:modified xsi:type="dcterms:W3CDTF">2008-01-14T17:04:30Z</dcterms:modified>
  <cp:revision>107</cp:revision>
  <dc:subject/>
  <dc:title>Chapter 11 Chemical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